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22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6.png" ContentType="image/png"/>
  <Override PartName="/ppt/media/image14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24AD-C8E2-4CE1-91F8-D7F3C9681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99C6-4B93-4776-89CA-BF1DC5027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2BD7-9BD2-43CB-90AF-DAE27BA06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4724-A8FF-4534-B1EC-F1C3583B0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DD1-C0E9-4B29-9ADD-4159CA9D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ED81-C803-4761-9805-E53AF441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6317-E4F2-4DC4-83B3-BCF90FCB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0223-6256-4E9B-8D91-D23E4B65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FEB2-630D-4426-8448-CDE8EAE7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088C-BAC1-4EF5-B272-4F17CEBF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9924-67A7-4211-83E5-22C0C167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D37B-1F5C-4BE9-B12B-5F14F398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66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0B28-C18F-4103-B75A-70AF23B685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ilimsite.kz/kazakh_tili/3883-kazak-halkynyn-ulttyk-kiimderi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артинки по запросу ою"/>
          <p:cNvPicPr/>
          <p:nvPr/>
        </p:nvPicPr>
        <p:blipFill>
          <a:blip r:embed="rId1"/>
          <a:stretch/>
        </p:blipFill>
        <p:spPr>
          <a:xfrm>
            <a:off x="395280" y="1197000"/>
            <a:ext cx="3002040" cy="4896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71280" y="260280"/>
            <a:ext cx="6116760" cy="14702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3333cc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050920" y="4292280"/>
            <a:ext cx="6400800" cy="8650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3333cc"/>
                </a:solidFill>
                <a:latin typeface="Times New Roman"/>
              </a:rPr>
              <a:t>ҰЛТТЫҚ КИІМДЕ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C:\Users\user\Documents\Без названия (18).jpg"/>
          <p:cNvPicPr/>
          <p:nvPr/>
        </p:nvPicPr>
        <p:blipFill>
          <a:blip r:embed="rId1"/>
          <a:stretch/>
        </p:blipFill>
        <p:spPr>
          <a:xfrm>
            <a:off x="-6480" y="0"/>
            <a:ext cx="915696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1395360" y="1096920"/>
            <a:ext cx="640080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user\Documents\images (82).jpg"/>
          <p:cNvPicPr/>
          <p:nvPr/>
        </p:nvPicPr>
        <p:blipFill>
          <a:blip r:embed="rId1"/>
          <a:stretch/>
        </p:blipFill>
        <p:spPr>
          <a:xfrm>
            <a:off x="6300720" y="333360"/>
            <a:ext cx="2525760" cy="1890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1403280" y="2276640"/>
          <a:ext cx="6096240" cy="3976560"/>
        </p:xfrm>
        <a:graphic>
          <a:graphicData uri="http://schemas.openxmlformats.org/drawingml/2006/table">
            <a:tbl>
              <a:tblPr/>
              <a:tblGrid>
                <a:gridCol w="3095640"/>
                <a:gridCol w="3000600"/>
              </a:tblGrid>
              <a:tr h="198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Маған бәрі де түсінікт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ұрақтар пайда бол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98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н есте сақтады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үсінбеді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  <p:pic>
        <p:nvPicPr>
          <p:cNvPr id="78" name="Прямоугольник 3" descr=""/>
          <p:cNvPicPr/>
          <p:nvPr/>
        </p:nvPicPr>
        <p:blipFill>
          <a:blip r:embed="rId2"/>
          <a:stretch/>
        </p:blipFill>
        <p:spPr>
          <a:xfrm>
            <a:off x="244440" y="85680"/>
            <a:ext cx="5900760" cy="1103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C:\Users\user\Documents\Без названия (33).jpg"/>
          <p:cNvPicPr/>
          <p:nvPr/>
        </p:nvPicPr>
        <p:blipFill>
          <a:blip r:embed="rId3"/>
          <a:stretch/>
        </p:blipFill>
        <p:spPr>
          <a:xfrm>
            <a:off x="3276720" y="3130560"/>
            <a:ext cx="1176120" cy="1090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user\Documents\Без названия (32).jpg"/>
          <p:cNvPicPr/>
          <p:nvPr/>
        </p:nvPicPr>
        <p:blipFill>
          <a:blip r:embed="rId4"/>
          <a:stretch/>
        </p:blipFill>
        <p:spPr>
          <a:xfrm>
            <a:off x="2556000" y="4857840"/>
            <a:ext cx="1928520" cy="14079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13" descr="C:\Users\user\Documents\images.jpgпп.jpg"/>
          <p:cNvPicPr/>
          <p:nvPr/>
        </p:nvPicPr>
        <p:blipFill>
          <a:blip r:embed="rId5"/>
          <a:stretch/>
        </p:blipFill>
        <p:spPr>
          <a:xfrm>
            <a:off x="5651640" y="4869000"/>
            <a:ext cx="1441440" cy="119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4" descr="C:\Users\user\Documents\images.jpgтттт.jpg"/>
          <p:cNvPicPr/>
          <p:nvPr/>
        </p:nvPicPr>
        <p:blipFill>
          <a:blip r:embed="rId6"/>
          <a:stretch/>
        </p:blipFill>
        <p:spPr>
          <a:xfrm>
            <a:off x="6443640" y="3141720"/>
            <a:ext cx="906480" cy="103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ілімділік: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оқушыларға қазақ халқының ұлттық киімдері, олардың түрлері және пайдалану ерекшеліктері туралы түсінік беру; жаттығу жұмыстары арқылы зат есімнің жалғауларын (септік, тәуелдік) қайтала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оқушылардың ұлттық киім тарихын зерттеуге қызығушылығын, эстетикалық талғамын арттырып, ойын, қиялын дамыту. Алған білімдерін ізденіспен қолдана білуге, өз </a:t>
            </a:r>
            <a:r>
              <a:rPr b="0" lang="ru-RU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бет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імен жұмыстануға дағдыландыру, байланыстырып сөйлеу қабілеттерін дамыту;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: қазақ халқының тарихына, рухани мәдени ескерткіштеріне, ұлттық киімдеріне, салт - дәстүрі мен өнеріне, тілі мен әдебиетіне қызығушылықтарын арттыру және оларды құрметтеуге тәрбиеле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851280" y="765000"/>
            <a:ext cx="48211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Қазақ халқының киім - кешегі - ұлттық, тұрмыстық және рухани мәдениеттің бағалы ескерткіштерінің бірі. Одан қазақ халқының ұлттық ерекшеліктері, мәдени дәстүрлері, эстетикалық талғамы анық байқалады. Киімнің тігілуінен халық тұрмысының жай - күйі, мәдениетінің қалыптасуы, ғасырлар бойы жинаған еңбек тәжірибесі көрінеді. Ұлттық киімдер сәндеп кестеленеді, зергерлік және басқа әшекей заттармен әдіптеледі. Халық шеберлерінің көптеген қолтумалары өнердің өлмес туындыларына айналды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4" descr="Картинки по запросу қазақтың ұлттық киімдері камзол"/>
          <p:cNvPicPr/>
          <p:nvPr/>
        </p:nvPicPr>
        <p:blipFill>
          <a:blip r:embed="rId1"/>
          <a:stretch/>
        </p:blipFill>
        <p:spPr>
          <a:xfrm>
            <a:off x="250920" y="765000"/>
            <a:ext cx="372276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user\Documents\slide_3.jpg"/>
          <p:cNvPicPr/>
          <p:nvPr/>
        </p:nvPicPr>
        <p:blipFill>
          <a:blip r:embed="rId1"/>
          <a:stretch/>
        </p:blipFill>
        <p:spPr>
          <a:xfrm>
            <a:off x="755640" y="40464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6" descr="Картинки по запросу топтық жұмыс түрлері"/>
          <p:cNvPicPr/>
          <p:nvPr/>
        </p:nvPicPr>
        <p:blipFill>
          <a:blip r:embed="rId1"/>
          <a:srcRect l="20429" t="23378" r="18269" b="14280"/>
          <a:stretch/>
        </p:blipFill>
        <p:spPr>
          <a:xfrm>
            <a:off x="2627280" y="1341360"/>
            <a:ext cx="3403800" cy="2592360"/>
          </a:xfrm>
          <a:prstGeom prst="rect">
            <a:avLst/>
          </a:prstGeom>
          <a:ln w="0">
            <a:noFill/>
          </a:ln>
        </p:spPr>
      </p:pic>
      <p:pic>
        <p:nvPicPr>
          <p:cNvPr id="50" name="Прямоугольник 5" descr=""/>
          <p:cNvPicPr/>
          <p:nvPr/>
        </p:nvPicPr>
        <p:blipFill>
          <a:blip r:embed="rId2"/>
          <a:stretch/>
        </p:blipFill>
        <p:spPr>
          <a:xfrm>
            <a:off x="1560600" y="158760"/>
            <a:ext cx="5645160" cy="110952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6"/>
          <p:cNvSpPr/>
          <p:nvPr/>
        </p:nvSpPr>
        <p:spPr>
          <a:xfrm>
            <a:off x="2195640" y="4005360"/>
            <a:ext cx="4572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user\Documents\4846947af6613c16ec5cb0e3b64de744.png"/>
          <p:cNvPicPr/>
          <p:nvPr/>
        </p:nvPicPr>
        <p:blipFill>
          <a:blip r:embed="rId1"/>
          <a:stretch/>
        </p:blipFill>
        <p:spPr>
          <a:xfrm>
            <a:off x="5435640" y="549360"/>
            <a:ext cx="3024000" cy="3527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bilim-all.kz/uploads/images/2015/05/01/original/00e41d34b176d228bf95a18c8d07dc88.jpg"/>
          <p:cNvPicPr/>
          <p:nvPr/>
        </p:nvPicPr>
        <p:blipFill>
          <a:blip r:embed="rId2"/>
          <a:stretch/>
        </p:blipFill>
        <p:spPr>
          <a:xfrm>
            <a:off x="1332000" y="1125360"/>
            <a:ext cx="2647800" cy="3686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3">
            <a:lum contrast="18000"/>
          </a:blip>
          <a:stretch/>
        </p:blipFill>
        <p:spPr>
          <a:xfrm>
            <a:off x="3780000" y="4005360"/>
            <a:ext cx="2808000" cy="2519280"/>
          </a:xfrm>
          <a:prstGeom prst="rect">
            <a:avLst/>
          </a:prstGeom>
          <a:ln w="0">
            <a:noFill/>
          </a:ln>
        </p:spPr>
      </p:pic>
      <p:sp>
        <p:nvSpPr>
          <p:cNvPr id="55" name="Прямоугольник 4"/>
          <p:cNvSpPr/>
          <p:nvPr/>
        </p:nvSpPr>
        <p:spPr>
          <a:xfrm>
            <a:off x="796680" y="476280"/>
            <a:ext cx="378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cc"/>
                </a:solidFill>
                <a:latin typeface="Times New Roman"/>
              </a:rPr>
              <a:t>«Ұлттық бас киім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Картинки по запросу шапан"/>
          <p:cNvPicPr/>
          <p:nvPr/>
        </p:nvPicPr>
        <p:blipFill>
          <a:blip r:embed="rId1"/>
          <a:stretch/>
        </p:blipFill>
        <p:spPr>
          <a:xfrm>
            <a:off x="755640" y="907920"/>
            <a:ext cx="2319480" cy="309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page-0012-2"/>
          <p:cNvPicPr/>
          <p:nvPr/>
        </p:nvPicPr>
        <p:blipFill>
          <a:blip r:embed="rId2"/>
          <a:stretch/>
        </p:blipFill>
        <p:spPr>
          <a:xfrm>
            <a:off x="6012000" y="2421000"/>
            <a:ext cx="2795400" cy="32353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Картинки по запросу тон, камзол"/>
          <p:cNvPicPr/>
          <p:nvPr/>
        </p:nvPicPr>
        <p:blipFill>
          <a:blip r:embed="rId3"/>
          <a:stretch/>
        </p:blipFill>
        <p:spPr>
          <a:xfrm>
            <a:off x="2627280" y="3213000"/>
            <a:ext cx="2198880" cy="329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Картинки по запросу тон, камзол"/>
          <p:cNvPicPr/>
          <p:nvPr/>
        </p:nvPicPr>
        <p:blipFill>
          <a:blip r:embed="rId4"/>
          <a:stretch/>
        </p:blipFill>
        <p:spPr>
          <a:xfrm>
            <a:off x="3995640" y="404640"/>
            <a:ext cx="2360880" cy="314820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5"/>
          <p:cNvSpPr/>
          <p:nvPr/>
        </p:nvSpPr>
        <p:spPr>
          <a:xfrm>
            <a:off x="5382360" y="260280"/>
            <a:ext cx="345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AutoShape 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3" descr="C:\Users\user\Documents\Без названия (31).jpg"/>
          <p:cNvPicPr/>
          <p:nvPr/>
        </p:nvPicPr>
        <p:blipFill>
          <a:blip r:embed="rId1"/>
          <a:stretch/>
        </p:blipFill>
        <p:spPr>
          <a:xfrm>
            <a:off x="2843280" y="3357720"/>
            <a:ext cx="2971800" cy="2224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Users\user\Documents\Без названия (30).jpg"/>
          <p:cNvPicPr/>
          <p:nvPr/>
        </p:nvPicPr>
        <p:blipFill>
          <a:blip r:embed="rId2"/>
          <a:stretch/>
        </p:blipFill>
        <p:spPr>
          <a:xfrm>
            <a:off x="5256360" y="1916280"/>
            <a:ext cx="2782800" cy="1636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C:\Users\user\Documents\Без названия (29).jpg"/>
          <p:cNvPicPr/>
          <p:nvPr/>
        </p:nvPicPr>
        <p:blipFill>
          <a:blip r:embed="rId3"/>
          <a:srcRect l="0" t="0" r="38713" b="0"/>
          <a:stretch/>
        </p:blipFill>
        <p:spPr>
          <a:xfrm>
            <a:off x="900000" y="2349360"/>
            <a:ext cx="1944720" cy="237492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5"/>
          <p:cNvSpPr/>
          <p:nvPr/>
        </p:nvSpPr>
        <p:spPr>
          <a:xfrm>
            <a:off x="2312280" y="907920"/>
            <a:ext cx="426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«Ұлттық аяқ киім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AutoShape 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0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2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4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6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18" descr="Картинки по запросу топтық жұмыс"/>
          <p:cNvPicPr/>
          <p:nvPr/>
        </p:nvPicPr>
        <p:blipFill>
          <a:blip r:embed="rId1"/>
          <a:stretch/>
        </p:blipFill>
        <p:spPr>
          <a:xfrm>
            <a:off x="2408400" y="1262160"/>
            <a:ext cx="4187520" cy="3071880"/>
          </a:xfrm>
          <a:prstGeom prst="rect">
            <a:avLst/>
          </a:prstGeom>
          <a:ln w="0">
            <a:noFill/>
          </a:ln>
        </p:spPr>
      </p:pic>
      <p:pic>
        <p:nvPicPr>
          <p:cNvPr id="73" name="Прямоугольник 11" descr=""/>
          <p:cNvPicPr/>
          <p:nvPr/>
        </p:nvPicPr>
        <p:blipFill>
          <a:blip r:embed="rId2"/>
          <a:stretch/>
        </p:blipFill>
        <p:spPr>
          <a:xfrm>
            <a:off x="360360" y="4322880"/>
            <a:ext cx="845964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0-07-27T15:15:01Z</dcterms:modified>
  <cp:revision>5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805000000000001024110</vt:lpwstr>
  </property>
</Properties>
</file>